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059-35B2-4A70-A6D9-BA928D40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38F-6F0B-41F9-BF4F-7027F19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D71-C764-40C0-AF8F-254F81A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27A-9F21-4C70-BD72-766E726B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5150-D450-4378-9625-1C0B1380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B6E7-031C-4B83-A72A-1CD4B3B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5775-DA64-406C-8480-B934143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76A-A093-4EFD-8988-5F1C6AF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11D3-611E-4AAF-A444-19904ABC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0955-150D-41E5-BA2F-A503E64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8271-B5F4-4967-AF79-205353C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473-EF79-4E71-A05E-DA8E9DC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5EEE-0513-4FDF-8EA1-2AC73AC3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4B9-F808-454B-A3AE-6D7A037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4CC-A54D-4C80-8ED4-DBA7CE6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C28F-A565-4F37-9645-B65D8D2E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1524-2122-484C-B590-234C31D5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2296-FABC-4D07-BBF2-47A37BD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ED13-3A53-4F7F-8F4D-26D33D37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2D036-243B-451F-A011-7CDDD84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AD24-9C73-4A5D-81F7-CB74899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1C84-0D7A-4CBA-AF24-28658E7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17D-65D7-48A0-86A0-A3A6C76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3DEB-3D9D-4D1F-AC1E-2723C3C7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8A9E-A029-4F37-94E5-7DD47FB0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42B1-D11C-431D-96E6-C756212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3CBC-5A78-47E7-AF7B-AFAB96D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0A00-C6E7-44E7-8722-3745D61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20CC-FD9E-47B0-B3EA-E20960D2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7D8C-8F23-4B35-9481-7E7060E6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D0DA-FCF1-4FDD-861C-A3AB51AB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1C5B-E04A-4331-8B01-3FCB6F1B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4CC8-8FE7-4129-9C1E-CDC45AC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D34-5689-4A43-A2A1-C59D1FF5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91C2-C024-47AF-B412-A74351DC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A5BF-5F84-4768-83B6-CE80AB64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9C56-6DB7-403A-BEDA-0763881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E975-735F-4BFE-9936-368D2E6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2F2B-62EB-4D84-828D-4AD31DD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E4BA-630A-4BAA-B99F-0E175CA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D8FF-7DD6-4F66-830D-53DC0335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7E04-5AF8-4665-AC4C-15CDBF64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9B7C-3FB8-4F67-B59F-F518732B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722D-BF3E-46DF-8D02-3E4F50F0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81A-F850-4851-B894-8E75E9E0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2134-7107-472D-8C7A-72EF8C20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0B24-6217-418F-801E-78BE3ED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6FDE-EB70-44C7-9D19-E1C38617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0712-AABE-4801-B2A9-4A05C92F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9652-D96F-4DF4-BCB1-6CFA783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D492-E9AC-4DF6-B1DF-77F0E76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F694D-5FEC-47E5-BB1D-4922751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6F2E-9387-441A-8AAC-6C5A0DA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D011-F4C4-4DD5-B94D-4D2E524E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C12D-C27E-411A-89B7-26719B9D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63B-6FCC-4A43-BBDF-D7E52353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9F20-B330-49FC-87B6-9A8BBD3F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77CE-8C14-4B74-AB82-9CEFA4E5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AB0A-2BE9-4EA4-A023-F3793E1A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C026-1124-4F36-9976-54BD2E3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AEB8-9E08-4459-8D7F-1D107A3F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D97A-977D-48A8-A5AF-D42959F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42A4-9D9B-4D0B-A84C-B23DFF1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B109-C98C-4A74-8C09-7AF95E2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33CB-FD36-4379-BD85-3BE73F2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BB0E1-6AE5-4239-AD5C-0C491F9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BF0-D774-4B2A-8022-5E20E23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85D44-1622-47D2-9EF4-C282CF3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BA06-119E-45CC-81DE-C3C71AA4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9A3F-DD21-4DD8-B673-17A3A7D9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3686-953B-44EC-9280-9F04E12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4412-A50A-4AEB-892F-1659DA2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5868-FE23-4865-8AC2-D33E157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2477-33B5-43F1-BD92-3EDE5E6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8498E-161C-4BD9-BEEF-639FF57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32B9-E3C2-474E-BD09-53F928C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4AE6-4468-4378-A89E-FDF3E7C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54A-338C-48E1-817B-7DF87F2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03FB-A9A6-4A59-ADA3-624BBB4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9E35-F142-48F8-A7DA-D4B9B24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4611-597B-452E-B0EB-0F5966F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4F4D-0131-4F76-98A0-99154BDD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5718-BF8D-41DC-9BF9-5F42C2C2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2146-CF9B-453A-AACD-744CB206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7589-C643-41DD-9339-E96DA48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4694-70E8-4783-9E1E-ED7EA69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6DCF-9024-4FC4-A7CF-AC4B706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DEE6-4B3D-43C8-A27B-53034D9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B00-CAD8-4B15-99B7-481ED37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441E8-36DF-4EA9-BC42-C68C878F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A0EA-4F37-41A3-A28C-533BC69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6949-6F5D-4020-B09A-B23809D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0287-E31A-4874-BFED-A40409D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74AA-E648-4960-8299-73B2909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222E-2686-4C85-8393-D4EEE64A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13A2D-D94A-4BD5-9517-659358A9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E986B-E0B7-4E33-A523-3C8E58C4E69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A4C3F-3999-4496-925A-2C0C0A8B16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58BEA-C5B8-4FFF-8B12-C90F8BCACC5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19DE9-3679-401A-A636-7D721C075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0683A-EEA6-447B-BFDE-A6F8F1419BF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2A9F2-081B-4626-AA4F-A979E48B0D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F9BED-D8A3-4A08-B446-E96C63948DB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BE130-9583-4AC8-B57C-5B00B37302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BAAD2-23D9-4FB0-8029-3D4A42029A9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1E864-07A2-4CBA-AB24-01701E4B3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F39AD-80CA-4327-978D-A4275F13EBC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C45EC-54A4-437D-94C7-4BDDDD06B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21371-99B8-4C36-BAE9-686AA66F8F8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80ADA-75C7-4C3C-8E39-7EF730E14B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6C979-5224-4F96-841B-FEAC171F0A5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E0098-7DAC-446A-BECF-618DBA4D29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Manifest Destiny and Its Leg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841-18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neca Falls Con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Declaration of Sentiments, with a partner you will be translating the document into terms that a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r would be able to underst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 careful with your word cho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late as much as you can before the end of cla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anifest Destiny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mes K. Polk: “Young Hickory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nifest Destin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idea that God “manifestly” destined the United States to expand across North Amer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g issue in 1844 elec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y (“great compromiser”) compromised away the presid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ed that although he favored annexing TX, he wanted to postpone annexa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ins elec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585120" y="4924440"/>
            <a:ext cx="1447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lk “The Purposeful”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had four major goal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ower tarif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lker Tariff of 1846: reduced tariff of 184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e the independent treasu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quisition of California w/o viol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quisition of Oregon w/o violence (war w/ Mexico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romise of acquiring Oregon at 49*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Misunderstandings With Mexico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tion of California consisted of Spanish-Mexicans &amp; Native Americ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anted to buy California from Mex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ons poor due to annexation of TX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John Slide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umors of Britain preparing to buy California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nt to Mexico City in 1845 by Polk to buy California for $25 million-offer rejected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" descr="File:John Slidell LA 1859.jpg"/>
          <p:cNvPicPr/>
          <p:nvPr/>
        </p:nvPicPr>
        <p:blipFill>
          <a:blip r:embed="rId1"/>
          <a:stretch/>
        </p:blipFill>
        <p:spPr>
          <a:xfrm>
            <a:off x="7122960" y="4475160"/>
            <a:ext cx="20210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exican American War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ordered 4,000 men under 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Zachary Tayl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to the Rio Grande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y 9, 184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Polk asked Congress to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clare war on Mexic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of the basis of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npaid claim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an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Slidell's rejec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xican troops attacked American troops that night &amp; war was declar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112920" y="4629240"/>
            <a:ext cx="2598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exican-American Wa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anted California, not war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Zachary Tayl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won many victories including a great victory over a large Mexican force at Buena Vis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 preside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Winfield Scott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cceeded in battling his way to Mexico City; distinguished gene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08120" y="4506840"/>
            <a:ext cx="1916280" cy="2351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619600" y="4506840"/>
            <a:ext cx="18734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Fighting Mexico for Peac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icholas P. Tri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chief clerk of the State Department; signed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y of Guadalupe Hidal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on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ebruary 2, 1848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eaty of Guadalupe Hidalg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ve Texas to America (Mexico recognizes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yielded area stretching westward to Oregon and the ocean, including California, for$15 million. 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posed by those who wanted all of Mexico and those who wanted none of 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174840" y="5119560"/>
            <a:ext cx="2613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ofit &amp; Loss in Mexico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d field experience for the officers including Robert E. Lee &amp; Ulysses S. Grant (Civil War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ught about the conflict of slavery between the states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mot Proviso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tated that territory from Mexico should remain slave-free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passed the Sena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thern members did not want to be robbed of possible slave st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¼ of white southerners owned sla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slaves upheld family 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rican roots &amp; cultu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at Turner’s Rebell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lave uprising; slaughtered 60 Virginia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litionists unpopular for some time in the Nor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679920" y="431784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lliam Henry Harrison contracted pneumonia &amp; died 4 weeks into his te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Tyler becomes presi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 in Whig clo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5842080" y="3073320"/>
            <a:ext cx="28447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ler vetoed bill to establish new Bank of the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jected by former Whig par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ariff of 184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protective Whig tarif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tred of Britai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tter memories of past w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itish critics wrote about America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War with England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rebellion in Canada (supported by too few Canadian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erican ship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Caro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as sunk by the Briti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offered asylum to 130 Virginian slaves who rebelled &amp; captured American ship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re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e boundary disp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wanted to build road that ran through disputed terri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niel Webster (secretary of state) &amp; Lord Ashburton negoti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 got 7,000 sq. miles of disputed l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itain got less land but als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t road rou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751360" y="4081320"/>
            <a:ext cx="3392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xico refused to recognize Texas’ independen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reatened war if US tried to acquire Tex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ain interested in independent T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as made treaties w/ France, Holland &amp; Belgiu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227400" y="3889440"/>
            <a:ext cx="29131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as became leading issue in presidential campaign of 184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James K. Polk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Democrat) vs. Henry Clay (Whig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mocrats pro-expansion &amp; for annexing Texa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Tyler arranged for annexation of Tex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45- Texas becomes 2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tate of the 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 nations claimed Oregon at one time: Spain, Russia, Britain &amp;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claims north of Columbia Riv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egon Fever”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egon trai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,000 Americans settled south of Columbia Riv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egon became issue in 1844 election, overshadowed by Tex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951280" y="5113440"/>
            <a:ext cx="3076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20:24:48Z</dcterms:created>
  <dc:creator>Emily Johnson</dc:creator>
  <dc:description/>
  <dc:language>en-US</dc:language>
  <cp:lastModifiedBy>emily.johnson</cp:lastModifiedBy>
  <dcterms:modified xsi:type="dcterms:W3CDTF">2012-11-26T21:36:51Z</dcterms:modified>
  <cp:revision>5</cp:revision>
  <dc:subject/>
  <dc:title>Chapter 17</dc:title>
</cp:coreProperties>
</file>